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FE9-2621-44B5-942F-6BC3507F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8B9-C805-4300-B2A6-212E6D47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8D2-D6DA-4847-B7FF-204BECC7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28C-D39C-4E56-95A1-7C51E5B7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55E-BBEA-45D8-A17B-D9560ED7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524-8B14-4AD9-86E0-41E7551D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183-46C9-45CD-B159-83ACFA5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87E-4CE4-4138-855D-200F65CB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F21-A822-42A3-927A-A1D2904A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415-A45E-4D3A-B850-685D1FBB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326-349A-4B08-9AED-5FB5147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C75-4507-4AF1-9945-D0698D6C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DD4D-313D-4C2C-B100-042AAC680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log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12408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gging is a great way for your students to write with an authentic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also a great way for you to communicate with parents &amp;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6320" y="190512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76520" y="2743200"/>
            <a:ext cx="45720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Blo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4280" y="434196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.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be the name for the entire blog, not just this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4114800"/>
            <a:ext cx="6858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343400"/>
            <a:ext cx="60984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blog from your page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4952880"/>
            <a:ext cx="129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724280"/>
            <a:ext cx="144756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Post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8800" y="3124080"/>
            <a:ext cx="144792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your post, then click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411480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410080"/>
            <a:ext cx="83808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“Posting” tab, then type your blog post in the text bo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991720" cy="47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3809880"/>
            <a:ext cx="1600200" cy="7621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609480" cy="6098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638680"/>
            <a:ext cx="76176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“Comments” tab, click “Save” and “Activ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24080" y="3505320"/>
            <a:ext cx="83844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4038480"/>
            <a:ext cx="12193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4876920"/>
            <a:ext cx="0" cy="914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880" y="4419720"/>
            <a:ext cx="14479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2:27:44Z</dcterms:created>
  <dc:creator>%$#@1</dc:creator>
  <dc:description/>
  <dc:language>en-US</dc:language>
  <cp:lastModifiedBy>%$#@1</cp:lastModifiedBy>
  <dcterms:modified xsi:type="dcterms:W3CDTF">2010-04-27T02:27:47Z</dcterms:modified>
  <cp:revision>1</cp:revision>
  <dc:subject/>
  <dc:title>Blogs</dc:title>
</cp:coreProperties>
</file>